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D9F3-7223-440B-8477-ADF073A00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5880-B5D3-4EF3-AD5A-1F47C541A2D3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9C3C-1383-458B-90A5-D74B1CF20909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2697-D688-4848-BD01-CFBBE71E3181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546E-E97C-43B1-B991-D69B8B5D2ED3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CB1E-57A9-4002-B0CE-797639935B67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160A-6608-486B-85C2-149E498DE829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77C3-1756-4EFA-831E-5F34C499CEC5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B1D7-8A5E-4E99-ABE8-493CB44D8673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346C-5C7E-4D41-BCA6-F2EA6CC271A9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23E4-E21E-433B-97DE-A6705905F7EA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96DF-5C10-4374-9D0B-DC42265E9EF9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C9DA-816D-4FA9-A13E-B95915A940C2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524A-F137-42CA-954C-C639A90DDBDA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E756-C902-4A26-ADF7-CB501A10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867-1629-4731-A1A4-63CE5D95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3AC3-5501-45DC-8EF6-A70786AB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EE5B-1F7F-4713-8D99-B66C33CB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97D8-5667-47D0-A2BC-689BAEB7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1B1D-42AA-442E-9D4B-F64607E4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7E2B-C68D-44DC-9747-F55BEC5C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9590-6D5E-4A7F-BBD3-27A99D17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8816-080D-497F-918C-4F744586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81C9-25E3-4905-8CB2-9D0928BA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CC48A-7E34-4C84-A65A-4A940EC5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CD58-1BB4-4B1A-BF71-C3F32867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CC74-60E2-4B44-B4FC-084057B7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41C6-392D-4AE3-9CF8-574CDF4C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4B0E-2E47-49E8-A374-BA8C30B0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101F-C732-499B-93FC-6556D49B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D2F0-FCFA-4C17-8F81-FB56D689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6475-E058-400A-9CBC-B370068D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1FAD-6496-4125-9675-AF08C512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804F-0E8E-46D8-9582-A08C7AE3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3F43-4730-414C-95F7-0B3FCECB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4B51-C6C3-4AC7-BA0C-1611473C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7E0E-15D0-4AAE-A0FC-EA8FFCF3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5706-F7AE-4B5B-8D28-E8E29154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D345-0E26-4298-A816-567FC163C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1861-3DF1-4A27-AEEF-B99C0E9FC0B9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Writing a Personal Narrative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p. 88, </a:t>
            </a:r>
            <a:r>
              <a:rPr b="1" i="1" lang="en-US" sz="2800" spc="-1" strike="noStrike">
                <a:solidFill>
                  <a:srgbClr val="006699"/>
                </a:solidFill>
                <a:latin typeface="Verdana"/>
              </a:rPr>
              <a:t>The Write Sour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ECH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C. Edg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English I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Keys to Effective Prewriting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Gather specific details about your chosen life experienc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ctions – relate what you (and others) did in a situatio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ensory details – show what you saw, smelled, heard, tasted, or touched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ersonal thoughts – reveal what you thought during your experienc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dentify the key sensory details related to this time (see the chart on p. 97 for a strategy for gathering these details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Keys to Effective Prewriting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rganize your ideas chronologically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Memorable narratives are suspenseful; they make the reader want to know what happens next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Start with a problem (conflict)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– some type of physical or mental obstacle in your way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Work in actions that respond to the problem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– each action should build suspense in the story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Build toward the climax or high point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– this is the most exciting part in which the writer does or does not overcome the challenge.  This should happen at the end of the narrativ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(see p. 98 for a diagram for plot development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Keys to Effective Prewriting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Use dialogue to add personality to your writing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ialogue should do three things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how a speaker’s personalit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Keep the action mov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dd inform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ompare the examples with and without dialogue on p. 99 to see how dialogue improves the personality and enjoyment of a narrative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4"/>
          <p:cNvSpPr txBox="1"/>
          <p:nvPr/>
        </p:nvSpPr>
        <p:spPr>
          <a:xfrm>
            <a:off x="1066680" y="1523880"/>
            <a:ext cx="693432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riting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Keys to Effective Writing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ell the complete story – the beginning, middle, and end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Grab the reader’s interest in the beginning, build suspense in the middle, and in the ending, tell how you were changed by the experienc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Use the details you gathered in prewriting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Include dialogue whenever it makes sense to do so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Write on every other line, leaving space for additions and changes later on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riting the Personal Narrative, p. 102-6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Get the big pictur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Have in mind how the story will begin, end, and everything in between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tart your personal narrativ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Grab the reader’s attention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Start in the middle of the action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Introduce the main problem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Include important background information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USE TRANSITIONS (see p. 103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evelop the middle part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Include the key actions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Add sensory details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Work in your personal thoughts and feelings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Maintain suspense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End your personal narrativ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The end should reveal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how you overcame your problem or accomplished something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what you have learned from the experience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4"/>
          <p:cNvSpPr txBox="1"/>
          <p:nvPr/>
        </p:nvSpPr>
        <p:spPr>
          <a:xfrm>
            <a:off x="990720" y="1447920"/>
            <a:ext cx="66294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Revising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vising the Personal Narrative, p. 107-118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Your first draft is your first look at a developing narrative. During the revising step, you improve your first draft by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dding to, rewriting,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or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reorganizing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ifferent part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ocus on these traits when you revise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dea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rganiza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Voic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ord Choic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entence Fluenc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Keys to Effective Revising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Set aside your first draft for a day or two, </a:t>
            </a:r>
            <a:r>
              <a:rPr b="1" lang="en-US" sz="2200" spc="-1" strike="noStrike">
                <a:solidFill>
                  <a:srgbClr val="006699"/>
                </a:solidFill>
                <a:latin typeface="Verdana"/>
              </a:rPr>
              <a:t>if possible</a:t>
            </a: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, before you review your writing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591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591120" indent="-59112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Be sure each main part—the beginning, the middle, and the ending—works well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591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591120" indent="-59112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Revise any parts that seem confusing or incomplete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591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591120" indent="-59112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Pay special attention to your writing voice.  Do you sound truly interested in the experience?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591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591120" indent="-59112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Use specific words that reflect your feelings about the experience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591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  <a:p>
            <a:pPr marL="591120" indent="-591120">
              <a:lnSpc>
                <a:spcPct val="80000"/>
              </a:lnSpc>
              <a:spcBef>
                <a:spcPts val="550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99"/>
                </a:solidFill>
                <a:latin typeface="Verdana"/>
              </a:rPr>
              <a:t>Be sure your sentences read smoothly.</a:t>
            </a:r>
            <a:endParaRPr b="0" lang="en-US" sz="2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vising for Ideas,            p. 108-9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e sure your narrative “shows” your experience, not just “tells” it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etails make the narrative clear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Do I </a:t>
            </a: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show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rather than </a:t>
            </a:r>
            <a:r>
              <a:rPr b="1" i="1" lang="en-US" sz="2400" spc="-1" strike="noStrike">
                <a:solidFill>
                  <a:srgbClr val="006699"/>
                </a:solidFill>
                <a:latin typeface="Verdana"/>
              </a:rPr>
              <a:t>tell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 in my narrative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Your narrative 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shows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if sentences contain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action, sensory details, dialogue,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nd your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personal thoughts and feeling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Have I included enough details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Use the 5 W’s and H — 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who? what? when? where? why?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and 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how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4 Writing Purpos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Expository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– provides information or an explanation about a topic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Narrativ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– tells a stor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escriptiv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– describes a subject using sensory detai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Persuasive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– attempts to change someone’s viewpoint about a subjec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vising for Organization,  p. 110-11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Be sure all parts of your narrative work smoothly together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oes my beginning grab the reader’s attention?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t does if it does one of the following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tarts in the middle of the actio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reates a clear image with sensory detail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371600" indent="-457200">
              <a:spcBef>
                <a:spcPts val="601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pens with a personal thought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vising for Organization,  p. 110-11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Does my ending work well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t does if you can answer “yes” to these 4 questions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oes my essay build to my personal victory or accomplishment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oes my personal narrative end soon after the most intense or most important moment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Will my reader know why this event is important to me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Are all my reader’s questions answered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f any answer is “no”, revise your ending to make it more solid and satisfying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vising for Voice,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. 112-3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key is realism and consistency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Does my dialogue sound realistic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t is if it reveals the speaker’s personality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o you know what your speaker’s personality is? (see the chart on p. 112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Have I created a consistent narrative voice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oes it sound like you throughout the entire work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vising for Word Choice,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. 114-5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Use specific verbs and words with the right connotation, or feeling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Have I used specific verbs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You have if your verbs show clear action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se the chart on p. 114 to improve your piec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Do my verbs have the right connotation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y do if they create the feeling you want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otice the difference in meaning of the verbs in the chart on p. 115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vising for Sentence Fluency, p. 116-7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heck for a variety of short and long sentence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When should I use long sentences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o express complex idea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When should I use short sentences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o deliver especially important idea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 series of short sentences can quicken the pace like a heart beating faster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Verdana"/>
              </a:rPr>
              <a:t>Use the revising checklist on p. 118 to check your progress.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4"/>
          <p:cNvSpPr txBox="1"/>
          <p:nvPr/>
        </p:nvSpPr>
        <p:spPr>
          <a:xfrm>
            <a:off x="1295280" y="1676520"/>
            <a:ext cx="784872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Edi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Editing your Personal Narrative, p. 119-22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Keys to Effective Editing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Use a dictionary, a thesaurus, and the “Proofreader’s Guide” on p. 604-763 in the 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Write Source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book to guide your correction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heck for any words or phrases that may be confusing to the reader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heck your narrative for correct use of punctuation, capitalization, spelling, and grammar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Edit on a printed computer copy and then enter your changes on the computer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Use the editing and proofreading marks on the inside back cover of the </a:t>
            </a:r>
            <a:r>
              <a:rPr b="0" i="1" lang="en-US" sz="2000" spc="-1" strike="noStrike">
                <a:solidFill>
                  <a:srgbClr val="006699"/>
                </a:solidFill>
                <a:latin typeface="Verdana"/>
              </a:rPr>
              <a:t>Write Source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book to note your change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Editing for Conventions,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. 120-21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Have I punctuated dialogue correctly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ollow these rules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Use a comma set off a speaker’s exact words from the rest of the sentenc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lace periods and commas inside quotation mark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lace an exclamation point or a question mark outside quotation marks when it punctuates the main sentence, and inside when it punctuates the quotation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Have I used pronouns correctly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838080" indent="-3808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You have if the pronouns agree with their antecedents in all of the following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Number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Gender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2574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erso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Verdana"/>
              </a:rPr>
              <a:t>Use the editing checklist on p. 122 to check your progress.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ersonal Narrativ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 personal narrative re-creates a specific experience or event in your life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o write an effective narrative, select an experience that you feel strongly about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457200" y="1523880"/>
            <a:ext cx="81532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ublish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ublishing your Personal Narrative, p. 123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ake a neat final copy to shar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Other ideas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Recording your narrativ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Presenting it in a class blog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Reading it to a group of your peer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Focus on presentation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Use blue or black ink and write neatly; or type your essay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Write your name in the upper left-hand corner of page 1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ouble-space your narrativ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Indent every paragraph and leave a one-inch margin on all four sides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Write your last name and the page number in the upper right-hand corner of every page after the first on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Verdana"/>
              </a:rPr>
              <a:t>Use the Rubric for Narrative Writing on p. 124-5 to assess your writing.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flecting on Your Writing, p. 128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You’ve worked hard on your personal narrativ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NOW – think about your writing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Complete each of the following statements about your narrative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he strongest part of my personal narrative is…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he part that still needs work is…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he main thing I learned about writing a personal narrative is…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In my next personal narrative, I would like to…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One question I still have about writing personal narratives is…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Be Selective with Detail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lthough you are telling a story, you will still be using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ensory detail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to paint a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mental pictur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for your reader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t is important to includ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pecific detail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owever, a reader doesn’t need to know every little thing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lect details that are important to retelling the story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riting a Narrative Paragraph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 narrative paragraph has 3 part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950760" indent="-51192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topic sentenc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– introduces the experien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507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50760" indent="-51192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body sentence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– share details that re-create the experien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5076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950760" indent="-511920">
              <a:spcBef>
                <a:spcPts val="700"/>
              </a:spcBef>
              <a:buClr>
                <a:srgbClr val="0066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closing sentenc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– reflects on the experienc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Understanding Your Goals for Writing a Personal Narrative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Idea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– clear ideas that re-create life experienc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Organization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– retell the story in chronological order with a strong beginning, middle, and en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Voic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– you want to sound natural, believable, and interested in your own topic (try to use dialogue when possible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Understanding Your Goals for Writing a Personal Narrative </a:t>
            </a: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Word Choic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– choose appropriate words based on their connotation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Sentence Fluency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– make each sentence move smoothly into the nex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Convention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– correct any spelling, punctuation, capitalization, and grammar errors before turning in your final draft (use a dictionary, spell check, and grammar handbook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Verdana"/>
              </a:rPr>
              <a:t>This is where it all begins!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990720" y="1523880"/>
            <a:ext cx="7162560" cy="268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rewri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Keys to Effective Prewriting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Look for writing ideas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Recalling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Freewriting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Memoir, etc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lect a writing idea for public writing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Not every life experience is appropriate for sharing publicly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Make good choices at the beginning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List your goals for the assignment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What do you want to accomplish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How will you know if you are successful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Identify your audience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Who will be reading this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Do you need to adjust your way of writing to fit this audience?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14:31:14Z</dcterms:created>
  <dc:creator>cedge</dc:creator>
  <dc:description/>
  <dc:language>en-US</dc:language>
  <cp:lastModifiedBy>Nadia Williams</cp:lastModifiedBy>
  <dcterms:modified xsi:type="dcterms:W3CDTF">2014-08-12T14:07:42Z</dcterms:modified>
  <cp:revision>26</cp:revision>
  <dc:subject/>
  <dc:title>Writing a Personal Narra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owPercent">
    <vt:bool>1</vt:bool>
  </property>
  <property fmtid="{D5CDD505-2E9C-101B-9397-08002B2CF9AE}" pid="3" name="ShowTimer">
    <vt:bool>1</vt:bool>
  </property>
</Properties>
</file>